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C229-0F7F-4B11-B75A-516D9A73B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BFFA-51AF-4FCB-88E6-A4501C7A6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92AF9B-F178-4A94-84ED-5E76CB2C5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254368-E5ED-4E37-945C-CD884681E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7C062B-DA5B-45DE-9AFD-7B0191BC6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EF4027-8B85-438F-9770-1761C2C5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D5DD66-AD20-43C8-B36B-5DC60865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0B9FE0-4C30-4E30-B250-A2EFF08F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AC7F25-B404-40DB-8019-2A472A483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E793A1-D839-44CA-AFE4-E3DFE57F2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73E37E-6C68-4374-9787-87C8A520C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69C575-3F81-441D-B18A-C9E48690B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01EA-381F-4380-9F8D-C0AEB419C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D48134-C0C7-402C-B0AB-2C9AB880F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4D9B76-6C86-4513-AC08-4234DBAEE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AA8499-6150-429F-B7BB-EE108B724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B693C6-BCB8-4979-AF91-8D23F9E21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847599-FAC3-4F75-9ACA-0F3132928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121F36-A155-4DD4-B70B-3206FA9F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8414BF-908F-465E-9ADB-F1A98CC1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1150FB-A55E-41CB-A23C-07DD85D4D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D1637E-2226-42C0-ACF6-CA777A00D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C7AF3D-0883-420B-B2DA-D09153B0A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A6D1-B40C-4B0E-8155-86C30D5F7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220769-4F1B-4F61-8E24-7E3428A7C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A27AFE-A7AD-48EC-8FC5-0F85C322F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B3C581-4200-4C65-8B88-59A20E1CC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0BDD68-B5CE-447C-A55C-55308CDEF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65EF8A-6E81-47BE-9A3E-BAB0D6437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9D869F-9594-4F6A-9FA5-98F74D919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95EA20-2313-4B77-9CEA-90EF757DB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0B25A6-BBD7-48A1-ABDF-A6265241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94CB66-C396-4C5E-BAA4-267D3750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428783-8072-4753-B2C1-5DA967EF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7FEF2-27BF-492A-B3AB-8FC95F233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AC9D3F-D282-41B6-94CC-B4F468479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70BA3D-C7A8-4EF3-B3F3-DFE3A245A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029A2B-71D5-4943-B2F5-277ADD361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13699E-7601-4E83-AF1E-4F062BC63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ADEAB4-E334-43C9-82EB-BA30FB97E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35BEAC-4417-40B7-BEA5-5CC5C4295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A60FCD-BA46-4914-B194-7BD470609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D7F10F-C3C4-4B64-B917-DB57778EE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F14A20-AA28-4430-84AB-643025D16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CBE7A8-F312-4923-8D54-E7428E51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B9A6F-E4C3-4368-A00F-497A8E2AB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404AE2-C219-439B-8560-982B2C30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C4A9D7-BFCF-4AB5-99B7-F75F8E3E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448F86-0ADA-41FE-ACE1-39DB2C37D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784F45-5F56-406A-82A0-CB005F248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669CC7-F15B-4AD7-A0F8-31655E7CB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0E5E75-2EC6-4BAC-825A-2A8D59BCD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A20EFA-A2C9-4F50-BEA2-5C0FB80A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B3355F-5A4A-4869-8791-EB876E93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F9435C-37CC-47FC-8B0C-A17EE78B7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E483FD-191E-49E8-B2E1-E95F0D88A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2748D-7155-42C7-B9C2-719D2E825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55AC93-3C8D-439A-AB63-2FFB20763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F79039-DE4B-4CEA-B720-8290E50B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EF768F-F088-48FD-8A91-226A2A2C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2D9DAE-750E-4687-9E0B-E90A0A6E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8AB49D-34EE-41FD-B7D2-AD1F24CAF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9F7BBE-7053-472E-9309-486C64EA8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BD8F88-C47D-4D00-8D1A-84D3A16A8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DEBCD9-29C9-43B7-B489-237C3DE7B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94F35C-0A66-46B6-874F-9D5C833F9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B3CEE7-DE11-44FB-8DBE-1AF00E4A7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231C3-2F3A-4EC6-A973-2AA65C2AB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F4132C-72DF-405F-B1D7-600C6DEEF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78ABE6-5145-4AA5-A493-590DAA9A5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B28AFF-E49D-4D7B-BDF4-D5DDB8144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0246CA-9F97-4735-83F1-74112594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9B7111-0DF4-43D4-95D7-4FE2D6EE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C4F99D-2B09-4885-AC74-17294A20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4106D6-09BE-4D36-B545-0697E4BFC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B6DA0F-6322-4D8B-A27F-077583D6B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872C41-485A-402B-891C-A3905838B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D90F5C-E8D1-4950-B59D-36F283EBE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674F9-9C25-47BA-AA3C-7EBC9DDC9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303EBC-A35C-4B33-B2D7-3ACD369E5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9ABF51-764B-43FA-B9BB-52ECEBB13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A2BFA1-9FBB-483D-834C-164DBDDE5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C2CAF9-53CE-451A-B982-0C2BCEF7F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B5AF4B-106A-4A3E-B2CA-309720DD1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571AA4-616F-403B-A0A2-D6BD8566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C66762-0C4C-44E1-AECD-03385A7E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A0F5FB-17BB-4646-90C4-AF95DD33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3A3099-8189-48B7-870D-E1988126D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5489D2-794C-4E9B-A72F-B768F259F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B1A4A-4192-40BC-86F5-163B44547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EDAE96-D1E2-44DF-B3DF-4B88977CE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13786E-3D5C-494A-92C9-79ACE4EEE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D825DE-843D-470B-AB5F-806A0E8C6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775ACC-11BA-4996-87D5-93398648B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609E2B-93CD-450C-97AA-831AC9673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BF5D00-D457-4F36-855A-11DA24782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ABEDDF-716F-4E4C-AF3A-27F2D0325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F25823-55E1-48FE-934C-8C86FA45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437FB5-A756-412B-AD77-AD5AEFDB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EC456E-89EB-4523-BAB6-DC7AF099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AFC6D-9906-4D18-8EA7-3B70E4CD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48AAC9-9F79-460E-BF61-24AF817A6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EEE313-6599-4EB9-B58C-2558D45E2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90F74F-8EC5-4D99-80EA-6DB702A43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ED1A7F-E030-460D-934C-987DEA263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699636-5654-4E55-AA51-D60649954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0B5D78-06BC-443A-AB7A-FC2C94C0D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F580F6-7D21-4696-98CF-1A1A6D4BD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8154D3-5A4C-4112-8940-0DAFBD3EF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E2F617-B720-4535-A4CD-CBA1E6153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8A631E-67E5-47B6-9EF7-198159AD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CDC6-C930-4556-B550-57258A06A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EBA18-2AA9-49F8-8FD1-561B1F33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1878FB-0F55-4D28-AF83-EEF4788E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AE9DD1-7218-41B3-B8B4-C35C137F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5CBFED-C490-45A6-9532-7C4779922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264540-C090-4D0A-83F1-DE1DCCD84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1A840E-8499-4B92-91BD-84877E909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376A8A-7FD3-4DB5-94E8-140215FAE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4FE17A-DED2-45A9-BB11-0B617150C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05D01A-6305-45ED-BC1B-118880581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CC85D8-AB39-4148-B0C4-F9BCD6AF8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F66732-16CF-481D-9674-77E8361C6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FD840-8490-424D-ADE0-ACDA3A87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06280B-EC98-4EB8-8493-15AA23445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D626F2-29AD-4C18-B7E9-FD060EEF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99D589-98BD-46B9-838D-EAB39FCE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AC89F5-CAED-4BB8-BD16-9BF6768F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917EDF-D3B1-4B81-9DB5-9DD8C1A03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7FF285-6E68-4ACB-93AE-35650DDDF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F69FFF-6C6E-4DA6-A435-09CB04FFF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0F7D9B-1445-4711-A9DB-93273542E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B3C6BE-0C3C-453B-B1B0-03F1526AB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8A6DB5-F3EE-45D2-A308-3CA62D6C1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E78BA-450A-40C1-BB2D-057E29AD6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4C829F-D5EC-47C9-9FF7-95D0BAEE8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770A45-67D2-41A4-8ED7-C9EFB309B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C0D064-74FE-4C2C-BE74-2D4A0BFA4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3E7EB6-29CC-45F1-90A8-BD51B0B7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D67AAF-E5D8-471C-A65D-E0466F0A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F0FA9F-9420-4256-9E5C-FEE714EF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EC0641-A84D-4424-85DE-19883CEF0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AB42F3-6DAF-4AC4-A6A0-3C484A135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5D6A79-B3FA-4AE5-A6D3-94C000A4A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243C8A-71C2-4A91-B5EB-52BBFE168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1EC1F-0A72-4552-9EE4-FE37EDF24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51C85B-573E-4CFC-A7B3-87FF7FA3F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58BE48-0701-42ED-9A2C-92A34F693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324C66-4505-4110-B557-4969CF8C5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24ED2D-EBF4-41DF-A4AB-5395EA5E1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B885FE-960C-4276-BBA0-5B7A8FE4E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9D56C5-B77D-410D-9613-BAA177F6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9BAAE6-8572-407F-BB65-C7D90AE4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5B61CC-BC9B-433F-A449-48ABAC95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599817-C8FA-405F-B274-E861501FF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E89A7F-68C5-40E3-B1FE-73C90CB91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66AAB-D2A8-464F-92F6-8BFE945CC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F86F67-F2F4-46FA-B937-5038ADB61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DABC8F-95DC-4F79-B477-18E8E80C1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D94B59-5D93-4B52-A3B7-947A5D6D9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08FE16-29D6-41AF-81AF-F6F00F068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D445FA-E9B0-4559-A31A-9B005EA1A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150F26-FF5E-4CA9-8530-273AD187D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97926D-3AC4-4D18-B3DC-F386E6CD6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604751-E265-4DF1-976B-0C3C3EA6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425597-C25E-464D-AB1E-83E36458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A69B17-B4D9-4429-90E9-C2D301C7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140CE-4756-4FF4-A7E0-2A9CA1474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E114B5-5317-431E-8B0B-3E2525606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37D929-2DA7-4337-9CAA-7CEBE0678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129588-B33A-4D04-A7CB-031778EEA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4669C-F633-4820-8FF2-953536EE8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AE52D-5313-4E18-863A-3BFF36664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10F45-C548-4F8B-8937-60E780C26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0F67E-20BA-40D4-B7F5-F701F2E16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DCEB-47FF-49AE-B92C-B7D25A1A8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FA436-7847-443D-9E0A-2E3F94C74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CF6AB-5354-4539-93B4-DE125969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55E53-E897-4D88-99FB-CB6FB55A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1EFD4-64AB-4E20-8568-B2E31F71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0E80A-7053-43F5-B719-FC096381E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71FCB-CBAF-41A1-B83C-39E7A670D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62C59-0E06-49B8-AD15-7EE4389FC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39A19-5E99-4AE9-9D7C-75DBAE51E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211D5-B1EC-48D8-A280-77C68FC32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66949-47CC-4906-B2CB-DC9E982B2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C758-4600-49DB-AEBF-E8121E9C2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D5226-FAF6-44FE-B7C7-E3DFF67EB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86068-E287-4DD2-8053-B5D2DC0AC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4579E-B669-45C9-85FA-086E99C11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A89E0-F524-47CD-AFD0-A12A7A87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465A5-4DE6-4E51-81FB-1BF40C69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662D7-F010-4414-AFB0-E7BE0B17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2C14F-09BE-4C0A-9020-EBA0DAC88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5DD7D-8097-4D76-BFC2-13D3C298F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61785-8E69-45C5-97CD-B55C489B5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9BB6D-5F0C-4E89-B7A8-F6C0708B8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01C3-3FE7-4BFF-B063-60E825B53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06D7E-C491-4230-8366-C92FE577A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F0DA1-6E6D-476E-AD9C-48859F0E9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C4A0D-52FE-4551-B337-7586C1E0D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3DB77-0562-4F20-AA75-E01ACB1F3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D21F6-B5C0-4D6B-8B70-594B4DF34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F9FD1-B2A6-43AF-A740-530CCFFA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91D0D-5610-41AE-8F24-2FF30E960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77451-5E10-4665-B457-EA343048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D56D8-3314-4A61-AA6C-317D4AC24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746B9-DC95-4317-A2DF-708549741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72A0-86FF-4912-82B7-41E3ACC34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9932D-E589-4E6B-9E6B-5E4082677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D9C56-DD95-4AAA-9ED4-3C90C22BC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F2441A-8AE7-4FD7-BA63-627AB01A0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31056-2EFE-40C5-91BD-7E5EC28D6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A56F8-9C43-4682-96B6-C80BF399E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84843-C872-4859-B135-40C5ED603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E99915-8D5C-4B3C-B7BE-376A181AB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65615-B5D9-4E54-BC2A-80955D94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24AD2-023C-48AF-B7CD-AE3EF849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AD0F8-640F-405C-A964-7C113DF0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C718-BE32-495B-A31D-CA41A5FD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38367-627D-439E-9D07-A68186562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BEC29-8E8F-4C8C-B451-D1F349DC1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D18BF-82CA-4023-9A11-3005C867D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399D0E-F6F1-4ED2-B21A-3A098B041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0C218-C9A2-4E64-A1FE-C5DDD26C0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DE5305-2CE9-4216-B5EC-E28A3F800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8B2FE3-0096-476F-8FE1-2025B0D64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3C42B-B25D-49CE-881B-02EFF16ED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1256A-9BDC-464C-B2E4-38D4BE000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1D313C-6723-496C-A9F1-6788C2DB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FF39-56C5-419C-A731-C63FF298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CA645-7772-4F00-A439-FA8E1A14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DC8D95-7882-4710-9BFD-CC4901A0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1AD9F-6F38-4121-9141-604A1CE8E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14588B-F261-4544-9999-BFBC5C195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D808E-C5CB-4D73-BEE4-CD058D093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73EA2F-CF20-4BD4-8D6D-F4AE4C4AD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908138-6FDE-4C9C-9E2C-B643F27F6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D15205-8F88-48C0-B809-2D8CFF465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879CE4-1F4F-4CAD-AA8A-423537894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183B4D-B43D-4AB7-BF3C-45F3B2D42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176D-56B6-41AA-963B-56E0B082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83FEED-BB6F-40EB-991A-599BD03B2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F2C56F-DA88-4E80-BDB3-A9ADFF52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6C335A-F6F2-454F-83AC-7B7A7C75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1EE258-FFC3-46AE-976F-52E3003A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ED1477-0ABC-4459-8FA7-3E88E05DB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51F3A6-B2FB-49ED-AB14-744B08BF5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81E1EC-6CE1-46F2-ACE3-ACA4B84B1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9E5B9C-E850-4240-8AFB-BC1A597EE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3071DA-A2DE-455E-B458-DA4415108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AA8C11-EA08-4F56-B6AA-B4CE56ABA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AD40E-5616-4A40-8EB1-B8161C849F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7A81D-30A0-4717-8B16-A4AB030752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E286-217C-44FE-84FD-C866992C55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793EE-1E7F-472F-BB4D-80B1C9A444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A8442-3F19-4ECA-BD69-01A0ECD775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FF651-77EF-4980-BF3C-0FC6BB4114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60A12-0E93-4293-9A2B-84E163FE0A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24225-7259-44A3-95BE-7A7708E5FC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455F2-162B-4853-B743-E6FEF0907C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A850C-B026-473E-8ED8-9C2047AFF0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A0A5D-00B2-4A39-8766-5A11C50D4F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8B66F-31EB-4D73-940A-90B61643D0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4E4C8-59D7-4767-A029-BEA29861D0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0008E-AAC8-44D7-8C95-99AF35017B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B439F-F353-4AEC-9B5E-CAB54F3587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C7F19-6312-4448-B5CC-5CCE9BCE06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3B04A-8C8C-4687-B989-017EF9C1C7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A0E4D-B995-44E1-9DEB-36E00835BB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9CA49-A4CD-4D29-A8FD-E6CEBD70B6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DDE79-6349-4332-87D5-24D5527CEB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DB38-5846-46DF-8E7A-643B0040AC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A1F96-CCFE-4691-998F-9C3D600028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C5592-0CB9-4AB9-8DA7-82AE0008AF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119FD-BB8C-47A8-A909-E3D01F9924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AD232-5471-4AD2-8A0F-536C94E3AD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61D5-5099-4CA8-8DF7-80D569D32F4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768B1-198F-4760-9D39-A4E9F67736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F1F6E-3905-407B-8488-FA803F79B5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B9ADC-5A0E-4A3D-B738-02197FD67F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117AA-700A-4352-A2B4-2E61375AB3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E1E5E-285C-48BE-9DC2-452154C8F5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B54B6-9C61-45D0-82D0-A28998024B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E69A7-CBF2-4197-B031-785D4BEAF2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B005D-A870-4704-A1FE-475D110748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C5FFF-DB2A-4AB8-B19E-D1A1F55570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7FC61-56F6-4B15-8DDC-BBC57D4D55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C4054-DFC7-479C-8159-4CBA781AB6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25BB7-0C71-4F77-8AC3-F35D9F8762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2F6E1-169E-41AC-BD29-C2111C7997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59113-8D4A-4DB8-84A1-D10BDAD553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2692440" y="1628640"/>
            <a:ext cx="3562200" cy="790560"/>
          </a:xfrm>
          <a:prstGeom prst="rect">
            <a:avLst/>
          </a:prstGeom>
          <a:ln w="0">
            <a:noFill/>
          </a:ln>
        </p:spPr>
      </p:pic>
      <p:pic>
        <p:nvPicPr>
          <p:cNvPr id="1025" name="图片 2" descr=""/>
          <p:cNvPicPr/>
          <p:nvPr/>
        </p:nvPicPr>
        <p:blipFill>
          <a:blip r:embed="rId2"/>
          <a:stretch/>
        </p:blipFill>
        <p:spPr>
          <a:xfrm>
            <a:off x="952560" y="2852640"/>
            <a:ext cx="7238880" cy="819360"/>
          </a:xfrm>
          <a:prstGeom prst="rect">
            <a:avLst/>
          </a:prstGeom>
          <a:ln w="0">
            <a:noFill/>
          </a:ln>
        </p:spPr>
      </p:pic>
      <p:pic>
        <p:nvPicPr>
          <p:cNvPr id="1026" name="图片 3" descr=""/>
          <p:cNvPicPr/>
          <p:nvPr/>
        </p:nvPicPr>
        <p:blipFill>
          <a:blip r:embed="rId3"/>
          <a:stretch/>
        </p:blipFill>
        <p:spPr>
          <a:xfrm>
            <a:off x="2771640" y="4076640"/>
            <a:ext cx="381816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7" name="图片 1" descr=""/>
          <p:cNvPicPr/>
          <p:nvPr/>
        </p:nvPicPr>
        <p:blipFill>
          <a:blip r:embed="rId1"/>
          <a:stretch/>
        </p:blipFill>
        <p:spPr>
          <a:xfrm>
            <a:off x="57240" y="954000"/>
            <a:ext cx="902952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90" name="图片 1" descr=""/>
          <p:cNvPicPr/>
          <p:nvPr/>
        </p:nvPicPr>
        <p:blipFill>
          <a:blip r:embed="rId1"/>
          <a:stretch/>
        </p:blipFill>
        <p:spPr>
          <a:xfrm>
            <a:off x="1204920" y="1724040"/>
            <a:ext cx="6734160" cy="340992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1" descr=""/>
          <p:cNvPicPr/>
          <p:nvPr/>
        </p:nvPicPr>
        <p:blipFill>
          <a:blip r:embed="rId2"/>
          <a:stretch/>
        </p:blipFill>
        <p:spPr>
          <a:xfrm>
            <a:off x="1547640" y="170028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1" descr=""/>
          <p:cNvPicPr/>
          <p:nvPr/>
        </p:nvPicPr>
        <p:blipFill>
          <a:blip r:embed="rId3"/>
          <a:stretch/>
        </p:blipFill>
        <p:spPr>
          <a:xfrm>
            <a:off x="1547640" y="240336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1" descr=""/>
          <p:cNvPicPr/>
          <p:nvPr/>
        </p:nvPicPr>
        <p:blipFill>
          <a:blip r:embed="rId4"/>
          <a:stretch/>
        </p:blipFill>
        <p:spPr>
          <a:xfrm>
            <a:off x="1547640" y="306864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94" name="Picture 1" descr=""/>
          <p:cNvPicPr/>
          <p:nvPr/>
        </p:nvPicPr>
        <p:blipFill>
          <a:blip r:embed="rId5"/>
          <a:stretch/>
        </p:blipFill>
        <p:spPr>
          <a:xfrm>
            <a:off x="1547640" y="378936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95" name="Picture 1" descr=""/>
          <p:cNvPicPr/>
          <p:nvPr/>
        </p:nvPicPr>
        <p:blipFill>
          <a:blip r:embed="rId6"/>
          <a:stretch/>
        </p:blipFill>
        <p:spPr>
          <a:xfrm>
            <a:off x="1547640" y="443700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9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30" name="图片 1" descr=""/>
          <p:cNvPicPr/>
          <p:nvPr/>
        </p:nvPicPr>
        <p:blipFill>
          <a:blip r:embed="rId2"/>
          <a:stretch/>
        </p:blipFill>
        <p:spPr>
          <a:xfrm>
            <a:off x="642960" y="895320"/>
            <a:ext cx="7856640" cy="506736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3"/>
          <a:stretch/>
        </p:blipFill>
        <p:spPr>
          <a:xfrm>
            <a:off x="1619280" y="177336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4"/>
          <a:stretch/>
        </p:blipFill>
        <p:spPr>
          <a:xfrm>
            <a:off x="1692360" y="3284640"/>
            <a:ext cx="576000" cy="4492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5"/>
          <a:stretch/>
        </p:blipFill>
        <p:spPr>
          <a:xfrm>
            <a:off x="1692360" y="4724280"/>
            <a:ext cx="57600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6" name="图片 1" descr=""/>
          <p:cNvPicPr/>
          <p:nvPr/>
        </p:nvPicPr>
        <p:blipFill>
          <a:blip r:embed="rId1"/>
          <a:stretch/>
        </p:blipFill>
        <p:spPr>
          <a:xfrm>
            <a:off x="876240" y="2033640"/>
            <a:ext cx="7391520" cy="279072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2"/>
          <a:stretch/>
        </p:blipFill>
        <p:spPr>
          <a:xfrm>
            <a:off x="1258920" y="206064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3"/>
          <a:stretch/>
        </p:blipFill>
        <p:spPr>
          <a:xfrm>
            <a:off x="1258920" y="350028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1" name="图片 1" descr=""/>
          <p:cNvPicPr/>
          <p:nvPr/>
        </p:nvPicPr>
        <p:blipFill>
          <a:blip r:embed="rId1"/>
          <a:stretch/>
        </p:blipFill>
        <p:spPr>
          <a:xfrm>
            <a:off x="900000" y="919080"/>
            <a:ext cx="7344000" cy="501984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2"/>
          <a:stretch/>
        </p:blipFill>
        <p:spPr>
          <a:xfrm>
            <a:off x="3492360" y="2535120"/>
            <a:ext cx="1656000" cy="44928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3"/>
          <a:stretch/>
        </p:blipFill>
        <p:spPr>
          <a:xfrm>
            <a:off x="6084720" y="2506680"/>
            <a:ext cx="1656000" cy="4492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4"/>
          <a:stretch/>
        </p:blipFill>
        <p:spPr>
          <a:xfrm>
            <a:off x="3492360" y="3255840"/>
            <a:ext cx="2087640" cy="4492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5"/>
          <a:stretch/>
        </p:blipFill>
        <p:spPr>
          <a:xfrm>
            <a:off x="6443640" y="3241800"/>
            <a:ext cx="1655640" cy="4492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6"/>
          <a:stretch/>
        </p:blipFill>
        <p:spPr>
          <a:xfrm>
            <a:off x="3348000" y="3990960"/>
            <a:ext cx="1655640" cy="4492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7"/>
          <a:stretch/>
        </p:blipFill>
        <p:spPr>
          <a:xfrm>
            <a:off x="5796000" y="3962520"/>
            <a:ext cx="1655640" cy="4492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8"/>
          <a:stretch/>
        </p:blipFill>
        <p:spPr>
          <a:xfrm>
            <a:off x="3635280" y="4710240"/>
            <a:ext cx="1728720" cy="44928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9"/>
          <a:stretch/>
        </p:blipFill>
        <p:spPr>
          <a:xfrm>
            <a:off x="6227640" y="4695840"/>
            <a:ext cx="1656000" cy="4492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10"/>
          <a:stretch/>
        </p:blipFill>
        <p:spPr>
          <a:xfrm>
            <a:off x="3708360" y="5445000"/>
            <a:ext cx="1655640" cy="4492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11"/>
          <a:stretch/>
        </p:blipFill>
        <p:spPr>
          <a:xfrm>
            <a:off x="6156360" y="5416560"/>
            <a:ext cx="165564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4" name="图片 1" descr=""/>
          <p:cNvPicPr/>
          <p:nvPr/>
        </p:nvPicPr>
        <p:blipFill>
          <a:blip r:embed="rId1"/>
          <a:stretch/>
        </p:blipFill>
        <p:spPr>
          <a:xfrm>
            <a:off x="61920" y="1004760"/>
            <a:ext cx="9018720" cy="484848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2"/>
          <a:stretch/>
        </p:blipFill>
        <p:spPr>
          <a:xfrm>
            <a:off x="1116000" y="220500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3"/>
          <a:stretch/>
        </p:blipFill>
        <p:spPr>
          <a:xfrm>
            <a:off x="1042920" y="429264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9" name="图片 1" descr=""/>
          <p:cNvPicPr/>
          <p:nvPr/>
        </p:nvPicPr>
        <p:blipFill>
          <a:blip r:embed="rId1"/>
          <a:stretch/>
        </p:blipFill>
        <p:spPr>
          <a:xfrm>
            <a:off x="474840" y="817560"/>
            <a:ext cx="8389800" cy="3827520"/>
          </a:xfrm>
          <a:prstGeom prst="rect">
            <a:avLst/>
          </a:prstGeom>
          <a:ln w="0">
            <a:noFill/>
          </a:ln>
        </p:spPr>
      </p:pic>
      <p:pic>
        <p:nvPicPr>
          <p:cNvPr id="1060" name="图片 2" descr=""/>
          <p:cNvPicPr/>
          <p:nvPr/>
        </p:nvPicPr>
        <p:blipFill>
          <a:blip r:embed="rId2"/>
          <a:stretch/>
        </p:blipFill>
        <p:spPr>
          <a:xfrm>
            <a:off x="414360" y="4645080"/>
            <a:ext cx="8313840" cy="192384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3"/>
          <a:stretch/>
        </p:blipFill>
        <p:spPr>
          <a:xfrm>
            <a:off x="971640" y="1052640"/>
            <a:ext cx="576000" cy="44928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4"/>
          <a:stretch/>
        </p:blipFill>
        <p:spPr>
          <a:xfrm>
            <a:off x="971640" y="3141720"/>
            <a:ext cx="576000" cy="44928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5"/>
          <a:stretch/>
        </p:blipFill>
        <p:spPr>
          <a:xfrm>
            <a:off x="900000" y="543096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6" name="图片 1" descr=""/>
          <p:cNvPicPr/>
          <p:nvPr/>
        </p:nvPicPr>
        <p:blipFill>
          <a:blip r:embed="rId1"/>
          <a:stretch/>
        </p:blipFill>
        <p:spPr>
          <a:xfrm>
            <a:off x="9360" y="1197000"/>
            <a:ext cx="9125280" cy="4124160"/>
          </a:xfrm>
          <a:prstGeom prst="rect">
            <a:avLst/>
          </a:prstGeom>
          <a:ln w="0">
            <a:noFill/>
          </a:ln>
        </p:spPr>
      </p:pic>
      <p:pic>
        <p:nvPicPr>
          <p:cNvPr id="1067" name="图片 2" descr=""/>
          <p:cNvPicPr/>
          <p:nvPr/>
        </p:nvPicPr>
        <p:blipFill>
          <a:blip r:embed="rId2"/>
          <a:stretch/>
        </p:blipFill>
        <p:spPr>
          <a:xfrm>
            <a:off x="642960" y="5472000"/>
            <a:ext cx="8294760" cy="121932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" descr=""/>
          <p:cNvPicPr/>
          <p:nvPr/>
        </p:nvPicPr>
        <p:blipFill>
          <a:blip r:embed="rId3"/>
          <a:stretch/>
        </p:blipFill>
        <p:spPr>
          <a:xfrm>
            <a:off x="4643280" y="2060640"/>
            <a:ext cx="1657440" cy="44928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1" descr=""/>
          <p:cNvPicPr/>
          <p:nvPr/>
        </p:nvPicPr>
        <p:blipFill>
          <a:blip r:embed="rId4"/>
          <a:stretch/>
        </p:blipFill>
        <p:spPr>
          <a:xfrm>
            <a:off x="3132000" y="3414600"/>
            <a:ext cx="1657440" cy="44928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1" descr=""/>
          <p:cNvPicPr/>
          <p:nvPr/>
        </p:nvPicPr>
        <p:blipFill>
          <a:blip r:embed="rId5"/>
          <a:stretch/>
        </p:blipFill>
        <p:spPr>
          <a:xfrm>
            <a:off x="1403280" y="4076640"/>
            <a:ext cx="1224000" cy="44928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1" descr=""/>
          <p:cNvPicPr/>
          <p:nvPr/>
        </p:nvPicPr>
        <p:blipFill>
          <a:blip r:embed="rId6"/>
          <a:stretch/>
        </p:blipFill>
        <p:spPr>
          <a:xfrm>
            <a:off x="4500720" y="4076640"/>
            <a:ext cx="1223640" cy="44928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1" descr=""/>
          <p:cNvPicPr/>
          <p:nvPr/>
        </p:nvPicPr>
        <p:blipFill>
          <a:blip r:embed="rId7"/>
          <a:stretch/>
        </p:blipFill>
        <p:spPr>
          <a:xfrm>
            <a:off x="3276720" y="5402160"/>
            <a:ext cx="718920" cy="44928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1" descr=""/>
          <p:cNvPicPr/>
          <p:nvPr/>
        </p:nvPicPr>
        <p:blipFill>
          <a:blip r:embed="rId8"/>
          <a:stretch/>
        </p:blipFill>
        <p:spPr>
          <a:xfrm>
            <a:off x="3348000" y="6107040"/>
            <a:ext cx="107964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6" name="图片 1" descr=""/>
          <p:cNvPicPr/>
          <p:nvPr/>
        </p:nvPicPr>
        <p:blipFill>
          <a:blip r:embed="rId1"/>
          <a:stretch/>
        </p:blipFill>
        <p:spPr>
          <a:xfrm>
            <a:off x="800280" y="1380960"/>
            <a:ext cx="7543800" cy="409608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" descr=""/>
          <p:cNvPicPr/>
          <p:nvPr/>
        </p:nvPicPr>
        <p:blipFill>
          <a:blip r:embed="rId2"/>
          <a:stretch/>
        </p:blipFill>
        <p:spPr>
          <a:xfrm>
            <a:off x="1908000" y="220500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1" descr=""/>
          <p:cNvPicPr/>
          <p:nvPr/>
        </p:nvPicPr>
        <p:blipFill>
          <a:blip r:embed="rId3"/>
          <a:stretch/>
        </p:blipFill>
        <p:spPr>
          <a:xfrm>
            <a:off x="1908000" y="289548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1" descr=""/>
          <p:cNvPicPr/>
          <p:nvPr/>
        </p:nvPicPr>
        <p:blipFill>
          <a:blip r:embed="rId4"/>
          <a:stretch/>
        </p:blipFill>
        <p:spPr>
          <a:xfrm>
            <a:off x="1979640" y="357336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1" descr=""/>
          <p:cNvPicPr/>
          <p:nvPr/>
        </p:nvPicPr>
        <p:blipFill>
          <a:blip r:embed="rId5"/>
          <a:stretch/>
        </p:blipFill>
        <p:spPr>
          <a:xfrm>
            <a:off x="1908000" y="422100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1" descr=""/>
          <p:cNvPicPr/>
          <p:nvPr/>
        </p:nvPicPr>
        <p:blipFill>
          <a:blip r:embed="rId6"/>
          <a:stretch/>
        </p:blipFill>
        <p:spPr>
          <a:xfrm>
            <a:off x="1979640" y="494172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4" name="图片 1" descr=""/>
          <p:cNvPicPr/>
          <p:nvPr/>
        </p:nvPicPr>
        <p:blipFill>
          <a:blip r:embed="rId1"/>
          <a:stretch/>
        </p:blipFill>
        <p:spPr>
          <a:xfrm>
            <a:off x="857160" y="1547640"/>
            <a:ext cx="7429680" cy="37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43:09Z</dcterms:modified>
  <cp:revision>3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